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1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12.png" ContentType="image/png"/>
  <Override PartName="/ppt/media/image9.jpeg" ContentType="image/jpeg"/>
  <Override PartName="/ppt/media/image8.jpeg" ContentType="image/jpeg"/>
  <Override PartName="/ppt/media/image11.png" ContentType="image/png"/>
  <Override PartName="/ppt/media/image17.png" ContentType="image/png"/>
  <Override PartName="/ppt/media/image4.jpeg" ContentType="image/jpeg"/>
  <Override PartName="/ppt/media/image16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5.jpeg" ContentType="image/jpeg"/>
  <Override PartName="/ppt/media/image15.png" ContentType="image/png"/>
  <Override PartName="/ppt/media/image3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7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B7394-CA2D-424B-B251-E4B20BB285E0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каров Сергей Викторович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в сестринском деле: теория и практ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каров Сергей Викторович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в сестринском деле: теория и практ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Фредерик Тейло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Фредерик Тейло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дминистративная или классическая шко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дминистративная или классическая шко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Точно поставленные цели и идеал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Здравый смыс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Компетентная консультац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Дисциплина в коллектив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Справедливое отношение к персона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Быстрый, надежный, полный, точный и постоянный уч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петчирование, обеспечивающее четкое оперативное управле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 Гаррингтона Эмерсон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Точно поставленные цели и идеал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Здравый смыс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Компетентная консультац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Дисциплина в коллектив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Справедливое отношение к персонал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Быстрый, надежный, полный, точный и постоянный уче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петчирование, обеспечивающее четкое оперативное управлени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Гаррингтона Эмерсон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Нормы и расписания, позволяющие измерять все недостатки в организации и уменьшать вызванные ими потер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 Нормализация условий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Нормирование операций, предлагающее установление времени и последовательности, при которых достигаются наилучши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Письменные стандартные инстру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Вознаграждение за производитель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Нормы и расписания, позволяющие измерять все недостатки в организации и уменьшать вызванные ими потер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. Нормализация условий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Нормирование операций, предлагающее установление времени и последовательности, при которых достигаются наилучши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 Письменные стандартные инстру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 Вознаграждение за производитель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ри Файол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ри Файол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зделение труда.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лномочия и ответственность.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.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оначалие. Работник должен получать приказы только от одного непосредственного начальни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Единство направления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нципы управления Анри Файол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зделение труда.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лномочия и ответственность.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.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оначалие. Работник должен получать приказы только от одного непосредственного начальник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Единство направления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нципы управления Анри Файол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дчиненность личных интересов общим.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знаграждение персонала.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ентрализация.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9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калярная цепь.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дчиненность личных интересов общим.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знаграждение персонала.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ентрализация.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9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калярная цепь.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рядок. Место – для всего и все на своем ме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раведливость. Справедливость – это сочетание доброты и правосуд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ьность рабочего места для персонала.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нициатива.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4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рпоративный дух. Союз – это сила. А она является результатом гармонии персона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рядок. Место – для всего и все на своем мест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раведливость. Справедливость – это сочетание доброты и правосуд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ьность рабочего места для персонала.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нициатива.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4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рпоративный дух. Союз – это сила. А она является результатом гармонии персона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еория Х, Y (по Дуглас Мак-Грегору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человеческих отнош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еория Х, Y (по Дуглас Мак-Грегору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человеческих отношен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Х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теории Х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сматриваемые вопрос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нятие «менеджмент» и эволюция подходов к его реал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енности менеджмента в медицинских организациях и в сестринском дел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, методы и стил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сматриваемые вопрос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онятие «менеджмент» и эволюция подходов к его реал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енности менеджмента в медицинских организациях и в сестринском деле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, методы и стили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юдишек надо почаще перебирать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ван Гроз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Людишек надо почаще перебирать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ван Гроз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гласно теории Y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гласно теории Y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жон Рокфеллер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жон Рокфеллер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о содержанию: вербальные, графические, экспертные, математически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по цели: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тематическая школа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о содержанию: вербальные, графические, экспертные, математически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по цели: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тематическая школа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то много читает – умнее не становится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ао Цзэду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то много читает – умнее не становится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ао Цзэду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33 г. французский математик и консультант по управлению В. Грейкюнас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 основе расчетов было доказано, что количество непосредственно подчиненных у одного руководителя не должно превышать шести человек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33 г. французский математик и консультант по управлению В. Грейкюнас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 основе расчетов было доказано, что количество непосредственно подчиненных у одного руководителя не должно превышать шести человек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Лучше иметь десять человек под рукой, чем десять тысяч – в отдалении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ингизха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Лучше иметь десять человек под рукой, чем десять тысяч – в отдалении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ингизха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6 ± 2 человека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6 ± 2 человека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«Кадры решают всё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                             </a:t>
            </a: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Стал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адры решают всё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 основным особенностям управления здравоохранением относя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рудность, а иногда и невозможность исправления неверных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спользование компьютерных технологий способно существенно повысить эффективность управления и функционирование систем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 основным особенностям управления здравоохранением относя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рудность, а иногда и невозможность исправления неверных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спользование компьютерных технологий способно существенно повысить эффективность управления и функционирование системы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(от анг. management 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(от анг. management 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ратегический уровень – характеризуется функцией прогноза и план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тический уровень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перативный уровень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ратегический уровень – характеризуется функцией прогноза и планир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тический уровень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перативный уровень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ровни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Командно-административные – авторитарное управление на основе распоряжений, приказов, уставов и т.д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Экономико-математические – используют для стимулирования деятельности персонала путем воздействия на заработную плату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Социально-психологические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Командно-административные – авторитарное управление на основе распоряжений, приказов, уставов и т.д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Экономико-математические – используют для стимулирования деятельности персонала путем воздействия на заработную плату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Социально-психологические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мандно-административные методы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мандно-административные методы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пособы административного воздейств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билизирующие или регламентирующие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рядительные методы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уществуют две формы распорядительного метода: устная и документальна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исциплинарные методы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пособы административного воздейств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билизирующие или регламентирующие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аспорядительные методы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уществуют две формы распорядительного метода: устная и документальна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исциплинарные методы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ко-математические методы – это совокупность способов по осуществлению воздействия с помощью экономических категор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ко-математические методы – это совокупность способов по осуществлению воздействия с помощью экономических категор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циально- психологические методы включают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ямые метод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внушение (целенаправленное воздействие путем влияния на психику чело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убеждение (аргументирование с помощью логических средст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одражание (воздействие на основе личного пример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свенные методы  различаются формами опосредованного  воздействия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) условиями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циально- психологические методы включают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ямые метод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внушение (целенаправленное воздействие путем влияния на психику человек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 убеждение (аргументирование с помощью логических средств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подражание (воздействие на основе личного пример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Косвенные методы  различаются формами опосредованного  воздействия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) условиями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иль управления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Авторитарный (автократический)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Либеральный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Демократический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иль управления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Авторитарный (автократический)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Либеральный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Демократический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правленческий цик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Цикл эффективн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ухарта – Деминг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ы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тал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Цикл эффективн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ухарта – Деминг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ыл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тал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олтер Шухарт (1891 – 1967) – всемирно известный американский ученый и консультант по теории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о многом благодаря наработкам Шухарта была реализована статистическая концепция Шесть сигм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овместно с Э. Демингом предложил модель эффективного управления («цикл Шухарта-Деминга»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олтер Шухарт (1891 – 1967) – всемирно известный американский ученый и консультант по теории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о многом благодаря наработкам Шухарта была реализована статистическая концепция Шесть сигм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Совместно с Э. Демингом предложил модель эффективного управления («цикл Шухарта-Деминга»)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неджмент 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неджмент 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двард Деминг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бережливое производство»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еред окончанием второй мировой войны статистический контроль качества применялся в Японии очень мало. В конце 40-х годов Деминг обучал японцев статистическим методам. Деминг был первым из тех, кого теперь называют «американскими гуру качества», посетивших Японию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За Демингом последовали Д. Джуран и А. Фейгенбаум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двард Деминг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бережливое производство»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еред окончанием второй мировой войны статистический контроль качества применялся в Японии очень мало. В конце 40-х годов Деминг обучал японцев статистическим методам. Деминг был первым из тех, кого теперь называют «американскими гуру качества», посетивших Японию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За Демингом последовали Д. Джуран и А. Фейгенбаум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знак признания заслуг Э. Деминга в 1951 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В знак признания заслуг Э. Деминга в 1951 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Модель управления качество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одель управления качество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ланирование включает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Первая часть управленческого цикл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(сбор, хранение, обработку, анализ информации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ы планирования: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Аналитическ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орматив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Бюджетны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оотношений и пропор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сперимента и моделирова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Метод системного и ситуационного подхо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Экономический анализ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ланирование включает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Первая часть управленческого цикл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(сбор, хранение, обработку, анализ информации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ы планирования: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Аналитическ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Норматив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юджетны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соотношений и пропорц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сперимента и моделирова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Метод системного и ситуационного подхо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Экономический анализ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рганизация выполнения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оверка (контроль) – позволяет осуществлять обратную связь,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ействие (руководство) – это мотивация сотрудников для реализации управленческих решений, оно завершает цикл управления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рганизация выполнения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Проверка (контроль) – позволяет осуществлять обратную связь,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ействие (руководство) – это мотивация сотрудников для реализации управленческих решений, оно завершает цикл управления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аким образом, в понятие менеджмент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ля современного управления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Таким образом, в понятие менеджмент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Для современного управления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Благодарю за внимание!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ейтинг представителей различных профессий (по 100-балльной шкале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Рейтинг представителей различных профессий (по 100-балльной шкале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«Каждая кухарка может управлять государством»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Ленин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«Каждая кухарка может управлять государством»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Ленин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Успешное управление организацией требует наличия у менеджера следующих навыков и способностей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Способность управлять собо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Разумные личные цен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Четкие личные цел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Упор на постоянный личный рос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5. Навык решать проблем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6. Изобретательность и способность к инновация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7. Высокая способность влиять на окружающи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8. Способность руководить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0. Умение обучать и развивать подчиненных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1. Способность формировать и развивать эффективные рабочие группы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2. Знание эффективных управленческих подходов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Успешное управление организацией требует наличия у менеджера следующих навыков и способностей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Способность управлять собо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Разумные личные ценност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Четкие личные цел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Упор на постоянный личный рост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5. Навык решать проблем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6. Изобретательность и способность к инновациям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7. Высокая способность влиять на окружающи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8. Способность руководить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0. Умение обучать и развивать подчиненных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1. Способность формировать и развивать эффективные рабочие группы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2. Знание эффективных управленческих подходов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. Школа научного управления (1885-193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. Школа человеческих отношений (1930-1950 гг.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. Математическая школа управления (с 50-х годов XX века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. Школа научного управления (1885-193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. Школа человеческих отношений (1930-1950 гг.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. Математическая школа управления (с 50-х годов XX века)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ы менеджмент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ые принципы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2) рациональная организация тру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3) сотрудничество управляющего и рабочег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Школа научного управл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Основные принципы: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2) рациональная организация труда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3) сотрудничество управляющего и рабочего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fffff"/>
                </a:solidFill>
                <a:latin typeface="Arial"/>
              </a:rPr>
              <a:t>Школа научного управления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FB6D7-DCFF-4C11-80F9-DF30C89F01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4F1D-7036-4682-9944-62AA0AA4E8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9083D-2C00-430B-AFEB-E6C759358B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47DD9-165E-489A-9A8D-BAD25C1665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815D20-8125-472A-BC2E-1DC7F73F77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543B8-D16F-477F-BC15-66E3147830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C6F9C-85A1-4CFD-B9DB-36049C415B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C3405-7AFC-480B-9FF3-5ABD0829CD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96C0B-E5A8-4F18-A511-2C2B7025A8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BEFD6-C704-488C-8EBA-341C127EF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5BC20-B872-45FE-B56D-09BB830BF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85E3-3663-47FD-97B4-3CA5E7AD75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l-P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8B0F1A-B12A-4F68-89F8-7990284D05FF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6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Text Box 4"/>
          <p:cNvSpPr/>
          <p:nvPr/>
        </p:nvSpPr>
        <p:spPr>
          <a:xfrm>
            <a:off x="152280" y="4648320"/>
            <a:ext cx="881712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85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00"/>
                </a:solidFill>
                <a:latin typeface="Tahoma"/>
              </a:rPr>
              <a:t>Макаров Сергей Викторович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66ff33"/>
                </a:solidFill>
                <a:latin typeface="Arial"/>
              </a:rPr>
              <a:t>к.м.н., доцент кафедры общественного здоровья и здравоохранения Иркутского государственного медицинского университета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324000" y="1413000"/>
            <a:ext cx="86598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4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ffff"/>
                </a:solidFill>
                <a:latin typeface="Tahoma"/>
              </a:rPr>
              <a:t>Менеджмент в сестринском деле: теория и практика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Line 13"/>
          <p:cNvSpPr/>
          <p:nvPr/>
        </p:nvSpPr>
        <p:spPr>
          <a:xfrm>
            <a:off x="228600" y="990720"/>
            <a:ext cx="8686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Line 14"/>
          <p:cNvSpPr/>
          <p:nvPr/>
        </p:nvSpPr>
        <p:spPr>
          <a:xfrm>
            <a:off x="228600" y="4114800"/>
            <a:ext cx="8686800" cy="0"/>
          </a:xfrm>
          <a:prstGeom prst="line">
            <a:avLst/>
          </a:prstGeom>
          <a:ln w="255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2"/>
          <p:cNvSpPr/>
          <p:nvPr/>
        </p:nvSpPr>
        <p:spPr>
          <a:xfrm>
            <a:off x="0" y="4721760"/>
            <a:ext cx="9144000" cy="2008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«Правильная организация труда на заводе с устаревшим оборудованием обеспечит лучшие результаты, чем работа современного предприятия с плохой организацией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Фредерик Тейлор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75" name="Picture 6" descr="т"/>
          <p:cNvPicPr/>
          <p:nvPr/>
        </p:nvPicPr>
        <p:blipFill>
          <a:blip r:embed="rId2"/>
          <a:stretch/>
        </p:blipFill>
        <p:spPr>
          <a:xfrm>
            <a:off x="2987640" y="404640"/>
            <a:ext cx="3046320" cy="4248360"/>
          </a:xfrm>
          <a:prstGeom prst="rect">
            <a:avLst/>
          </a:prstGeom>
          <a:ln w="0">
            <a:noFill/>
          </a:ln>
        </p:spPr>
      </p:pic>
      <p:sp>
        <p:nvSpPr>
          <p:cNvPr id="7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"/>
          <p:cNvSpPr txBox="1"/>
          <p:nvPr/>
        </p:nvSpPr>
        <p:spPr>
          <a:xfrm>
            <a:off x="394920" y="2923920"/>
            <a:ext cx="8497800" cy="115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66000"/>
          </a:bodyPr>
          <a:p>
            <a:pPr>
              <a:lnSpc>
                <a:spcPct val="14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Основная задача – создание универсальных принципов управления.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4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     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Rectangle 4"/>
          <p:cNvSpPr/>
          <p:nvPr/>
        </p:nvSpPr>
        <p:spPr>
          <a:xfrm>
            <a:off x="0" y="1339920"/>
            <a:ext cx="9144000" cy="113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Административная или классическая школ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"/>
          <p:cNvSpPr txBox="1"/>
          <p:nvPr/>
        </p:nvSpPr>
        <p:spPr>
          <a:xfrm>
            <a:off x="178920" y="907560"/>
            <a:ext cx="9145800" cy="5473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. Точно поставлен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цели и идеал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Здравый смысл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. Компетентная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консультаци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4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Дисциплина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в коллектив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5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Справедливое отноше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к персоналу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6. Быстрый, надежный, полный, точный и постоянный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че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31720" indent="-39528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7.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Диспетчирова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обеспечивающее четкое оперативное управление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Rectangle 3"/>
          <p:cNvSpPr/>
          <p:nvPr/>
        </p:nvSpPr>
        <p:spPr>
          <a:xfrm>
            <a:off x="0" y="327600"/>
            <a:ext cx="9144000" cy="46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900" spc="-1" strike="noStrike">
                <a:solidFill>
                  <a:srgbClr val="00ffff"/>
                </a:solidFill>
                <a:latin typeface="Arial"/>
              </a:rPr>
              <a:t>Принципы управления Гаррингтона Эмерсона</a:t>
            </a:r>
            <a:endParaRPr b="0" lang="en-US" sz="2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 txBox="1"/>
          <p:nvPr/>
        </p:nvSpPr>
        <p:spPr>
          <a:xfrm>
            <a:off x="179280" y="18900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Нормы и расписания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позволяющие измерять все недостатки в организации и уменьшать вызванные ими потер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9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Нормализация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слов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обеспечивающая такое сочетание времени, условий и себестоимости, при котором достигаются наилучшие результат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10.Нормирование операц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, предлагающее установление времени и последовательности, при которых достигаются наилучшие результат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1. Письменные стандарт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инструкци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15000"/>
              </a:lnSpc>
              <a:spcBef>
                <a:spcPts val="1463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2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Вознагражде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за производительность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Picture 3" descr="200px-Fonds_henri_fayol"/>
          <p:cNvPicPr/>
          <p:nvPr/>
        </p:nvPicPr>
        <p:blipFill>
          <a:blip r:embed="rId2"/>
          <a:stretch/>
        </p:blipFill>
        <p:spPr>
          <a:xfrm>
            <a:off x="2916360" y="404640"/>
            <a:ext cx="3333600" cy="4392720"/>
          </a:xfrm>
          <a:prstGeom prst="rect">
            <a:avLst/>
          </a:prstGeom>
          <a:ln w="0">
            <a:noFill/>
          </a:ln>
        </p:spPr>
      </p:pic>
      <p:sp>
        <p:nvSpPr>
          <p:cNvPr id="86" name="Rectangle 6"/>
          <p:cNvSpPr/>
          <p:nvPr/>
        </p:nvSpPr>
        <p:spPr>
          <a:xfrm>
            <a:off x="0" y="4897800"/>
            <a:ext cx="9036000" cy="165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«Управлять – значит прогнозировать и планировать, организовывать, руководить командой, координировать и контролировать»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73160" indent="45720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Анри Файоль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 txBox="1"/>
          <p:nvPr/>
        </p:nvSpPr>
        <p:spPr>
          <a:xfrm>
            <a:off x="0" y="691920"/>
            <a:ext cx="9144000" cy="6165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1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Разделение труд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Специализация является естественным порядком вещей. Целью разделения труда является выполнение работы, большей по объему и лучшей по качеству, при тех же усилиях. Это достигается за счет сокращения числа целей, на которые должны быть направлены внимание и усили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2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Полномочия и ответственность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Полномочия есть право отдавать приказ, а ответственность есть ее составляющая противоположность. Где даются полномочия – там возникает ответственность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3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Дисциплин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Дисциплина предполагает послушание в уважение к достигнутым соглашениям между фирмой и ее работниками. Установление этих соглашений, связывающих фирму и работников, из которых возникают дисциплинарные формальности, должно оставаться одной из главных задач руководителей индустрии. Дисциплина также предполагает справедливо применяемые санкции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4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Единоначалие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Работник должен получать приказы только от одного непосредственного начальник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441360" indent="-304920">
              <a:lnSpc>
                <a:spcPct val="95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5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Единство направления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. Каждая группа, действующая в рамках одной цели, должна быть объединена единым планом и иметь одного руководителя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Rectangle 3"/>
          <p:cNvSpPr/>
          <p:nvPr/>
        </p:nvSpPr>
        <p:spPr>
          <a:xfrm>
            <a:off x="0" y="153720"/>
            <a:ext cx="9144000" cy="45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ffff"/>
                </a:solidFill>
                <a:latin typeface="Arial"/>
              </a:rPr>
              <a:t>Принципы управления Анри Файоля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"/>
          <p:cNvSpPr txBox="1"/>
          <p:nvPr/>
        </p:nvSpPr>
        <p:spPr>
          <a:xfrm>
            <a:off x="0" y="333360"/>
            <a:ext cx="914400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6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Подчиненность личных интересов общим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Интересы одного работника или группы работников не должны превалировать над интересами компании или организации большего масштаб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7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Вознаграждение персонала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Для того, чтобы обеспечить верность и поддержку работников, они должны получать справедливую зарплату за свою службу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8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Централизация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Как и разделение труда, централизация является естественным порядком вещей. Однако, соответствующая степень централизации будет варьироваться в зависимости от конкретных условий. Поэтому возникает вопрос о правильной пропорции между централизацией и децентрализацией. Это проблема определения меры, которая обеспечит лучшие возможные результаты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spcBef>
                <a:spcPts val="8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9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1900" spc="-1" strike="noStrike">
                <a:solidFill>
                  <a:srgbClr val="ffff99"/>
                </a:solidFill>
                <a:latin typeface="Tahoma"/>
              </a:rPr>
              <a:t>Скалярная цепь.</a:t>
            </a:r>
            <a:r>
              <a:rPr b="1" lang="ru-RU" sz="1900" spc="-1" strike="noStrike">
                <a:solidFill>
                  <a:srgbClr val="ffffff"/>
                </a:solidFill>
                <a:latin typeface="Tahoma"/>
              </a:rPr>
              <a:t> Скалярная цепь – это ряд лиц, стоящих на руководящих должностях, начиная от лица, занимающего самое высокое положение в этой цепочке, – вниз, до руководителя низового звена. Было бы ошибкой отказываться от иерархической системы без определенной необходимости в этом, но было бы еще большей ошибкой поддерживать эту иерархию, когда она наносит ущерб интересам бизнеса</a:t>
            </a:r>
            <a:endParaRPr b="0" lang="en-US" sz="19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"/>
          <p:cNvSpPr txBox="1"/>
          <p:nvPr/>
        </p:nvSpPr>
        <p:spPr>
          <a:xfrm>
            <a:off x="0" y="836640"/>
            <a:ext cx="8964720" cy="64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0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Порядок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Место – для всего и все на своем месте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1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праведливость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праведливость – это сочетание доброты и правосудия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2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Стабильность рабочего места для персонал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Высокая текучесть кадров снижает эффективность организации. Посредственный руководитель, который держится за место, безусловно предпочтительней чем выдающийся, талантливый менеджер, который быстро уходит и не держится за свое место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3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Инициатива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Инициатива означает разработку плана и обеспечение его успешной реализации. Это придает организации силу и энергию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14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1" lang="ru-RU" sz="2000" spc="-1" strike="noStrike">
                <a:solidFill>
                  <a:srgbClr val="ffff99"/>
                </a:solidFill>
                <a:latin typeface="Tahoma"/>
              </a:rPr>
              <a:t>Корпоративный дух.</a:t>
            </a:r>
            <a:r>
              <a:rPr b="1" lang="ru-RU" sz="2000" spc="-1" strike="noStrike">
                <a:solidFill>
                  <a:srgbClr val="ffffff"/>
                </a:solidFill>
                <a:latin typeface="Tahoma"/>
              </a:rPr>
              <a:t> Союз – это сила. А она является результатом гармонии персонала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23880" indent="-48744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"/>
          <p:cNvSpPr txBox="1"/>
          <p:nvPr/>
        </p:nvSpPr>
        <p:spPr>
          <a:xfrm>
            <a:off x="108000" y="1123560"/>
            <a:ext cx="9036000" cy="542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Эта школа рассматривает каждую организацию как социальную систему. Эффективно управлять можно только при умелом воздействии на систему социально-психологических факторов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2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    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я Х, 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en-US" sz="2600" spc="-1" strike="noStrike">
                <a:solidFill>
                  <a:srgbClr val="00ff00"/>
                </a:solidFill>
                <a:latin typeface="Lucida Sans"/>
              </a:rPr>
              <a:t> (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по Дуглас Мак-Грегору</a:t>
            </a:r>
            <a:r>
              <a:rPr b="1" lang="en-US" sz="2600" spc="-1" strike="noStrike">
                <a:solidFill>
                  <a:srgbClr val="00ff00"/>
                </a:solidFill>
                <a:latin typeface="Lucida Sans"/>
              </a:rPr>
              <a:t>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6300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Дуглас Мак-Грегор считал, что каждый руководитель в отношениях с подчиненными опирается на теоретические предпосылки, порождающие убежденность в том, что его поведение вызывает со стороны подчиненных определенную реакцию, которую можно предвидеть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6" name="Rectangle 4"/>
          <p:cNvSpPr/>
          <p:nvPr/>
        </p:nvSpPr>
        <p:spPr>
          <a:xfrm>
            <a:off x="0" y="404280"/>
            <a:ext cx="9144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Школа человеческих отношений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 txBox="1"/>
          <p:nvPr/>
        </p:nvSpPr>
        <p:spPr>
          <a:xfrm>
            <a:off x="395280" y="1700280"/>
            <a:ext cx="8748720" cy="4849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огласно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и Х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рядовой индивид имеет врожденную неприязнь к труду. Из этой теории вытекает признание необходимости очень жесткой формализации организационной структуры, централизации принятия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/>
          </p:nvPr>
        </p:nvSpPr>
        <p:spPr>
          <a:xfrm>
            <a:off x="179280" y="-360"/>
            <a:ext cx="8785440" cy="666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609480" indent="0" algn="ctr">
              <a:spcBef>
                <a:spcPts val="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600" spc="-1" strike="noStrike">
                <a:solidFill>
                  <a:srgbClr val="00ffff"/>
                </a:solidFill>
                <a:latin typeface="Arial"/>
              </a:rPr>
              <a:t>Рассматриваемые вопросы: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5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Понятие «менеджмент» и эволюция подходов к его реализации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Школы менеджмента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Особенности менеджмента в медицинских организациях и в сестринском деле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ровни, методы и стили управления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spcBef>
                <a:spcPts val="2001"/>
              </a:spcBef>
              <a:buClr>
                <a:srgbClr val="ffff99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Управленческий цикл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Rectangle 2"/>
          <p:cNvSpPr/>
          <p:nvPr/>
        </p:nvSpPr>
        <p:spPr>
          <a:xfrm>
            <a:off x="395280" y="5188680"/>
            <a:ext cx="864072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Людишек надо почаще перебирать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Иван Грозный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1" name="Picture 4" descr="481"/>
          <p:cNvPicPr/>
          <p:nvPr/>
        </p:nvPicPr>
        <p:blipFill>
          <a:blip r:embed="rId2"/>
          <a:stretch/>
        </p:blipFill>
        <p:spPr>
          <a:xfrm>
            <a:off x="2843280" y="620640"/>
            <a:ext cx="3432240" cy="4248360"/>
          </a:xfrm>
          <a:prstGeom prst="rect">
            <a:avLst/>
          </a:prstGeom>
          <a:ln w="0">
            <a:noFill/>
          </a:ln>
        </p:spPr>
      </p:pic>
      <p:sp>
        <p:nvSpPr>
          <p:cNvPr id="102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 txBox="1"/>
          <p:nvPr/>
        </p:nvSpPr>
        <p:spPr>
          <a:xfrm>
            <a:off x="179280" y="1052280"/>
            <a:ext cx="8785440" cy="5497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Согласно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теории </a:t>
            </a:r>
            <a:r>
              <a:rPr b="1" lang="en-US" sz="2600" spc="-1" strike="noStrike">
                <a:solidFill>
                  <a:srgbClr val="00ff00"/>
                </a:solidFill>
                <a:latin typeface="Arial"/>
              </a:rPr>
              <a:t>Y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труд является естественной потребностью человека. Поэтому теория У предполагает меньшую степень формализации, децентрализацию управления, значительную самостоятельность исполнителей, поощрение инициатив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 indent="536400">
              <a:lnSpc>
                <a:spcPct val="135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В теории У основной упор делается  на поощрения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Rectangle 2"/>
          <p:cNvSpPr/>
          <p:nvPr/>
        </p:nvSpPr>
        <p:spPr>
          <a:xfrm>
            <a:off x="0" y="4617360"/>
            <a:ext cx="9036000" cy="217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Умение общаться с людьми – такой же покупаемый за деньги товар, как сахар или кофе. И я готов платить за это умение больше, чем за какой-либо другой товар в этом мире» 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Джон Рокфеллер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06" name="Picture 4" descr="12"/>
          <p:cNvPicPr/>
          <p:nvPr/>
        </p:nvPicPr>
        <p:blipFill>
          <a:blip r:embed="rId2"/>
          <a:stretch/>
        </p:blipFill>
        <p:spPr>
          <a:xfrm>
            <a:off x="2916360" y="476280"/>
            <a:ext cx="3252600" cy="4032360"/>
          </a:xfrm>
          <a:prstGeom prst="rect">
            <a:avLst/>
          </a:prstGeom>
          <a:ln w="0">
            <a:noFill/>
          </a:ln>
        </p:spPr>
      </p:pic>
      <p:sp>
        <p:nvSpPr>
          <p:cNvPr id="10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 txBox="1"/>
          <p:nvPr/>
        </p:nvSpPr>
        <p:spPr>
          <a:xfrm>
            <a:off x="250560" y="907920"/>
            <a:ext cx="889308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Основа – моделирование, а также использование системного и ситуационного  подхода в управлени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       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При определении целей организации, построении ее структуры и анализа деятельности менеджер должен владеть методами системного анализа, которые условно можно разделить на две большие группы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1.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 содержанию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вербальные, графические, экспертные, математически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19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2.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</a:rPr>
              <a:t>по цели: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 декомпозиции, композиции, упрощения систем, оценки структурной адекватности, оценки взаимодействия элементов, оценки устойчивости системы во времени и пространстве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Rectangle 4"/>
          <p:cNvSpPr/>
          <p:nvPr/>
        </p:nvSpPr>
        <p:spPr>
          <a:xfrm>
            <a:off x="0" y="259560"/>
            <a:ext cx="9144000" cy="56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ffff"/>
                </a:solidFill>
                <a:latin typeface="Arial"/>
              </a:rPr>
              <a:t>Математическая школа управления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Rectangle 2"/>
          <p:cNvSpPr/>
          <p:nvPr/>
        </p:nvSpPr>
        <p:spPr>
          <a:xfrm>
            <a:off x="466560" y="5188680"/>
            <a:ext cx="8569440" cy="103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то много читает – умнее не становится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М</a:t>
            </a: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ао Цзэдун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2" name="Picture 4" descr="280px-Mao_Zedong_portrait"/>
          <p:cNvPicPr/>
          <p:nvPr/>
        </p:nvPicPr>
        <p:blipFill>
          <a:blip r:embed="rId2"/>
          <a:stretch/>
        </p:blipFill>
        <p:spPr>
          <a:xfrm>
            <a:off x="2843280" y="620640"/>
            <a:ext cx="3319560" cy="4392720"/>
          </a:xfrm>
          <a:prstGeom prst="rect">
            <a:avLst/>
          </a:prstGeom>
          <a:ln w="0">
            <a:noFill/>
          </a:ln>
        </p:spPr>
      </p:pic>
      <p:sp>
        <p:nvSpPr>
          <p:cNvPr id="11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324000" y="475920"/>
            <a:ext cx="88200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105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В </a:t>
            </a:r>
            <a:r>
              <a:rPr b="1" lang="ru-RU" sz="2600" spc="-1" strike="noStrike">
                <a:solidFill>
                  <a:srgbClr val="ff9933"/>
                </a:solidFill>
                <a:latin typeface="Tahoma"/>
              </a:rPr>
              <a:t>1933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г. французский математик и консультант по управлению </a:t>
            </a:r>
            <a:r>
              <a:rPr b="1" lang="ru-RU" sz="2600" spc="-1" strike="noStrike">
                <a:solidFill>
                  <a:srgbClr val="66ffff"/>
                </a:solidFill>
                <a:latin typeface="Tahoma"/>
              </a:rPr>
              <a:t>В. Грейкюнас</a:t>
            </a:r>
            <a:r>
              <a:rPr b="1" lang="ru-RU" sz="2600" spc="-1" strike="noStrike">
                <a:solidFill>
                  <a:srgbClr val="ffffff"/>
                </a:solidFill>
                <a:latin typeface="Tahoma"/>
              </a:rPr>
              <a:t> предложил в качестве критерия, определяющего норму управляемости, считать количество взаимосвязей в организации. Увеличение численности персонала неизбежно сопровождается многократным ростом числа и сложности контактов, возникающих в процессе управленческой деятельности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lnSpc>
                <a:spcPct val="10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На основе расчетов было доказано, что количество непосредственно подчиненных у одного руководителя не должно превышать </a:t>
            </a:r>
            <a:r>
              <a:rPr b="1" lang="ru-RU" sz="2800" spc="-1" strike="noStrike">
                <a:solidFill>
                  <a:srgbClr val="ffff66"/>
                </a:solidFill>
                <a:latin typeface="Tahoma"/>
              </a:rPr>
              <a:t>шести человек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0" y="5020920"/>
            <a:ext cx="9036000" cy="136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Лучше иметь десять человек под рукой, чем десять тысяч – в отдалении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Чингизха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17" name="Picture 4" descr="483"/>
          <p:cNvPicPr/>
          <p:nvPr/>
        </p:nvPicPr>
        <p:blipFill>
          <a:blip r:embed="rId2"/>
          <a:stretch/>
        </p:blipFill>
        <p:spPr>
          <a:xfrm>
            <a:off x="2843280" y="692280"/>
            <a:ext cx="3373200" cy="3960720"/>
          </a:xfrm>
          <a:prstGeom prst="rect">
            <a:avLst/>
          </a:prstGeom>
          <a:ln w="0">
            <a:noFill/>
          </a:ln>
        </p:spPr>
      </p:pic>
      <p:sp>
        <p:nvSpPr>
          <p:cNvPr id="11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324000" y="1123560"/>
            <a:ext cx="8820000" cy="451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Выводы В. Грейкюнаса являются основанием для уменьшения числа коммуникаций за счет предоставления подчиненным большей самостоятельности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Чтобы менеджер высшего уровня не был перегружен решением оперативных и тактических задач и имел возможность заниматься стратегическими вопросами организации, среднее значение нормы управляемости должно быть </a:t>
            </a:r>
            <a:r>
              <a:rPr b="1" lang="ru-RU" sz="2800" spc="-1" strike="noStrike">
                <a:solidFill>
                  <a:srgbClr val="ff9900"/>
                </a:solidFill>
                <a:latin typeface="Tahoma"/>
              </a:rPr>
              <a:t>6 ± 2</a:t>
            </a: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 человека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Rectangle 2"/>
          <p:cNvSpPr/>
          <p:nvPr/>
        </p:nvSpPr>
        <p:spPr>
          <a:xfrm>
            <a:off x="2484360" y="5212800"/>
            <a:ext cx="655164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адры решают всё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Стали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22" name="Picture 4" descr="ст"/>
          <p:cNvPicPr/>
          <p:nvPr/>
        </p:nvPicPr>
        <p:blipFill>
          <a:blip r:embed="rId2"/>
          <a:stretch/>
        </p:blipFill>
        <p:spPr>
          <a:xfrm>
            <a:off x="2771640" y="476280"/>
            <a:ext cx="3521160" cy="4680000"/>
          </a:xfrm>
          <a:prstGeom prst="rect">
            <a:avLst/>
          </a:prstGeom>
          <a:ln w="0">
            <a:noFill/>
          </a:ln>
        </p:spPr>
      </p:pic>
      <p:sp>
        <p:nvSpPr>
          <p:cNvPr id="12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Прямоугольник 3"/>
          <p:cNvSpPr/>
          <p:nvPr/>
        </p:nvSpPr>
        <p:spPr>
          <a:xfrm>
            <a:off x="179280" y="189000"/>
            <a:ext cx="8964720" cy="6658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Управление здравоохранением в связи со специфичностью объекта делает управление им чрезвычайно сложным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К основным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особенностям управления здравоохранением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относят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Особую ответственность принимаемых решений, от которых зависит жизнь и здоровье люде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Трудность, а иногда и невозможность предсказания отдаленных последствий принимаемых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indent="357120">
              <a:lnSpc>
                <a:spcPct val="100000"/>
              </a:lnSpc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Трудность, а иногда и невозможность исправления неверных решений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Использование </a:t>
            </a:r>
            <a:r>
              <a:rPr b="1" lang="ru-RU" sz="2600" spc="-1" strike="noStrike">
                <a:solidFill>
                  <a:srgbClr val="ff9933"/>
                </a:solidFill>
                <a:latin typeface="Arial"/>
                <a:ea typeface="Arial"/>
              </a:rPr>
              <a:t>компьютерных технологий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способно существенно повысить эффективность управления и функционирование системы.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от анг. </a:t>
            </a:r>
            <a:r>
              <a:rPr b="1" i="1" lang="en-US" sz="3200" spc="-1" strike="noStrike">
                <a:solidFill>
                  <a:srgbClr val="ffffff"/>
                </a:solidFill>
                <a:latin typeface="Lucida Sans"/>
              </a:rPr>
              <a:t>management</a:t>
            </a:r>
            <a:r>
              <a:rPr b="1" i="1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управление, руководство, правление) – это совокупность принципов, методов, средств и форм управления предприятием (учреждением, организацией), ориентированная на повышение эффективности их деятельности и способствующая удовлетворению общественных потребностей. 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178920" y="836280"/>
            <a:ext cx="8572680" cy="578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Стратегически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характеризуется функцией прогноза и планирова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Тактически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предполагает разработку программы действия для достижения поставленной цели, оптимальное распределение ресурсов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5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.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</a:rPr>
              <a:t>Оперативный уровень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– позволяет обеспечить эффективное достижение поставленных целей и включает регулирование, учет, контроль, анализ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80000"/>
              </a:lnSpc>
              <a:spcBef>
                <a:spcPts val="751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7" name="Rectangle 3"/>
          <p:cNvSpPr/>
          <p:nvPr/>
        </p:nvSpPr>
        <p:spPr>
          <a:xfrm>
            <a:off x="0" y="18792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Уровни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"/>
          <p:cNvSpPr txBox="1"/>
          <p:nvPr/>
        </p:nvSpPr>
        <p:spPr>
          <a:xfrm>
            <a:off x="0" y="907560"/>
            <a:ext cx="9144000" cy="5349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Командно-административны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авторитарное управление на основе распоряжений, приказов, уставов и т.д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Экономико-математически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используют для стимулирования деятельности персонала путем воздействия на заработную плату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356040" indent="-222480">
              <a:lnSpc>
                <a:spcPct val="9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Социально-психологические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ориентированы на изменение мотивации деятельности сотрудников и позволяют повысить у них степень удовлетворенности выполняемыми функциями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0" y="187920"/>
            <a:ext cx="9144000" cy="612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Методы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 txBox="1"/>
          <p:nvPr/>
        </p:nvSpPr>
        <p:spPr>
          <a:xfrm>
            <a:off x="324000" y="333360"/>
            <a:ext cx="8496000" cy="623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0360" indent="630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Командно-административные методы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управления  представляют собой совокупность способов по осуществлению властного (принудительно-распорядительного) воздейств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0360" indent="630360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Они основаны на праве управляющей подсистемы (органа управления или руководителя) принимать управленческие решения  виде приказов, распоряжений, инструкций и обязательном их выполнении управляемой подсистемой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"/>
          <p:cNvSpPr txBox="1"/>
          <p:nvPr/>
        </p:nvSpPr>
        <p:spPr>
          <a:xfrm>
            <a:off x="179280" y="189000"/>
            <a:ext cx="8964720" cy="6500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marL="536400" indent="-40284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800" spc="-1" strike="noStrike">
                <a:solidFill>
                  <a:srgbClr val="00ffff"/>
                </a:solidFill>
                <a:latin typeface="Arial"/>
                <a:ea typeface="Arial"/>
              </a:rPr>
              <a:t>Способы административного воздействия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1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Стабилизирующи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или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регламентирующи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методы  устанавливают  определенные  правила, точные предписания к действию, рамки деятельности (положения, нормы нагрузки, нормативы, штатное расписание ЛПУ и др.)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2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Распорядительные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направлены на решение конкретных задач в ситуациях, которые не предусмотрены установленными и действующими положениями и правилами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Существуют две формы распорядительного метода: устная и документальная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536400" indent="-402840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3.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Дисциплинарные 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воздействия включают не только строгое  выполнение плановой, производственной и финансовой дисциплины, но и  установление ответственности: личной и коллективной, моральной и материальной, служебной и гражданской.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325440" y="1412640"/>
            <a:ext cx="8818560" cy="544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 indent="41040">
              <a:lnSpc>
                <a:spcPct val="14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99"/>
                </a:solidFill>
                <a:latin typeface="Arial"/>
                <a:ea typeface="Arial"/>
              </a:rPr>
              <a:t>Экономико-математические методы</a:t>
            </a:r>
            <a:r>
              <a:rPr b="1" lang="ru-RU" sz="3600" spc="-1" strike="noStrike">
                <a:solidFill>
                  <a:srgbClr val="ffffff"/>
                </a:solidFill>
                <a:latin typeface="Arial"/>
                <a:ea typeface="Arial"/>
              </a:rPr>
              <a:t> – это совокупность способов по осуществлению воздействия с помощью экономических категорий.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95400" indent="41040">
              <a:lnSpc>
                <a:spcPct val="145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"/>
          <p:cNvSpPr txBox="1"/>
          <p:nvPr/>
        </p:nvSpPr>
        <p:spPr>
          <a:xfrm>
            <a:off x="0" y="188640"/>
            <a:ext cx="9144000" cy="614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     </a:t>
            </a:r>
            <a:r>
              <a:rPr b="1" lang="ru-RU" sz="2500" spc="-1" strike="noStrike">
                <a:solidFill>
                  <a:srgbClr val="ffff99"/>
                </a:solidFill>
                <a:latin typeface="Arial"/>
                <a:ea typeface="Arial"/>
              </a:rPr>
              <a:t>Социально- психологические методы</a:t>
            </a:r>
            <a:r>
              <a:rPr b="1" lang="ru-RU" sz="2500" spc="-1" strike="noStrike">
                <a:solidFill>
                  <a:srgbClr val="ffffff"/>
                </a:solidFill>
                <a:latin typeface="Arial"/>
                <a:ea typeface="Arial"/>
              </a:rPr>
              <a:t> включают: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ru-RU" sz="2300" spc="-1" strike="noStrike">
                <a:solidFill>
                  <a:srgbClr val="ff9933"/>
                </a:solidFill>
                <a:latin typeface="Arial"/>
                <a:ea typeface="Arial"/>
              </a:rPr>
              <a:t>Прямые методы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а) внушение (целенаправленное воздействие путем влияния на психику человека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б) убеждение (аргументирование с помощью логических средств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в) подражание (воздействие на основе личного примера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г) вовлечение (воздействие путем использования гражданских чувств, социально- психологических мотивов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д) принуждение (повышение морально- общественной значимости предстоящей работы)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	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i="1" lang="ru-RU" sz="2300" spc="-1" strike="noStrike">
                <a:solidFill>
                  <a:srgbClr val="ff9933"/>
                </a:solidFill>
                <a:latin typeface="Arial"/>
                <a:ea typeface="Arial"/>
              </a:rPr>
              <a:t>Косвенные методы</a:t>
            </a: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  различаются формами опосредованного  воздействия: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а) условиями труда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б) элементами системы управления: положениями, должностными инструкциями, организационной структурой, формами контроля и стимулирования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  <a:p>
            <a:pPr marL="16596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ffffff"/>
                </a:solidFill>
                <a:latin typeface="Arial"/>
                <a:ea typeface="Arial"/>
              </a:rPr>
              <a:t>в) путем создания соответствующего социально- психологического климата в коллективе.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3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       </a:t>
            </a:r>
            <a:r>
              <a:rPr b="1" lang="ru-RU" sz="2400" spc="-1" strike="noStrike">
                <a:solidFill>
                  <a:srgbClr val="ffff99"/>
                </a:solidFill>
                <a:latin typeface="Arial"/>
                <a:ea typeface="Arial"/>
              </a:rPr>
              <a:t>Стиль управления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это система сложившихся отношений между руководителем и коллективом по поводу  принятия и реализации ре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1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Авторитарный (автократический)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характеризуется минимальной контактностью руководителя с коллективом, жесткостью в выработке и реализации решений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2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Либеральны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– полная противоположность авторитарного  стиля. Руководитель каждое решение согласовывает с коллективом, идет на бесконечные уступки  формальным и неформальным лидерам и группам. По существу коллектив управляет руководителем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3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3. </a:t>
            </a:r>
            <a:r>
              <a:rPr b="1" lang="ru-RU" sz="2400" spc="-1" strike="noStrike">
                <a:solidFill>
                  <a:srgbClr val="ff9933"/>
                </a:solidFill>
                <a:latin typeface="Arial"/>
                <a:ea typeface="Arial"/>
              </a:rPr>
              <a:t>Демократический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  <a:ea typeface="Arial"/>
              </a:rPr>
              <a:t> тип управления или система группового участия в управлении – основан на активном привлечении подчиненных как к  определению целей организации и подразделений, так и к контролю за их достижениями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2" name="Group 2"/>
          <p:cNvGrpSpPr/>
          <p:nvPr/>
        </p:nvGrpSpPr>
        <p:grpSpPr>
          <a:xfrm>
            <a:off x="971640" y="1413000"/>
            <a:ext cx="6913440" cy="5113080"/>
            <a:chOff x="971640" y="1413000"/>
            <a:chExt cx="6913440" cy="5113080"/>
          </a:xfrm>
        </p:grpSpPr>
        <p:grpSp>
          <p:nvGrpSpPr>
            <p:cNvPr id="143" name="Group 3"/>
            <p:cNvGrpSpPr/>
            <p:nvPr/>
          </p:nvGrpSpPr>
          <p:grpSpPr>
            <a:xfrm>
              <a:off x="971640" y="1413000"/>
              <a:ext cx="6913440" cy="5113080"/>
              <a:chOff x="971640" y="1413000"/>
              <a:chExt cx="6913440" cy="5113080"/>
            </a:xfrm>
          </p:grpSpPr>
          <p:sp>
            <p:nvSpPr>
              <p:cNvPr id="144" name="Line 4"/>
              <p:cNvSpPr/>
              <p:nvPr/>
            </p:nvSpPr>
            <p:spPr>
              <a:xfrm>
                <a:off x="4643280" y="1413000"/>
                <a:ext cx="0" cy="259236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5" name="Line 5"/>
              <p:cNvSpPr/>
              <p:nvPr/>
            </p:nvSpPr>
            <p:spPr>
              <a:xfrm flipH="1">
                <a:off x="2195280" y="4005360"/>
                <a:ext cx="2448000" cy="180000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6" name="Line 6"/>
              <p:cNvSpPr/>
              <p:nvPr/>
            </p:nvSpPr>
            <p:spPr>
              <a:xfrm>
                <a:off x="4643280" y="4005360"/>
                <a:ext cx="2808360" cy="1873080"/>
              </a:xfrm>
              <a:prstGeom prst="line">
                <a:avLst/>
              </a:prstGeom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7" name="Freeform 7"/>
              <p:cNvSpPr/>
              <p:nvPr/>
            </p:nvSpPr>
            <p:spPr>
              <a:xfrm>
                <a:off x="2423880" y="1434960"/>
                <a:ext cx="4373640" cy="4546800"/>
              </a:xfrm>
              <a:custGeom>
                <a:avLst/>
                <a:gdLst>
                  <a:gd name="textAreaLeft" fmla="*/ 0 w 4373640"/>
                  <a:gd name="textAreaRight" fmla="*/ 4374000 w 4373640"/>
                  <a:gd name="textAreaTop" fmla="*/ 0 h 4546800"/>
                  <a:gd name="textAreaBottom" fmla="*/ 4547160 h 4546800"/>
                </a:gdLst>
                <a:ahLst/>
                <a:rect l="textAreaLeft" t="textAreaTop" r="textAreaRight" b="textAreaBottom"/>
                <a:pathLst>
                  <a:path w="2755" h="2864">
                    <a:moveTo>
                      <a:pt x="1391" y="1632"/>
                    </a:moveTo>
                    <a:cubicBezTo>
                      <a:pt x="1416" y="1585"/>
                      <a:pt x="1442" y="1540"/>
                      <a:pt x="1485" y="1523"/>
                    </a:cubicBezTo>
                    <a:cubicBezTo>
                      <a:pt x="1528" y="1507"/>
                      <a:pt x="1601" y="1498"/>
                      <a:pt x="1648" y="1532"/>
                    </a:cubicBezTo>
                    <a:cubicBezTo>
                      <a:pt x="1695" y="1566"/>
                      <a:pt x="1775" y="1649"/>
                      <a:pt x="1764" y="1727"/>
                    </a:cubicBezTo>
                    <a:cubicBezTo>
                      <a:pt x="1753" y="1805"/>
                      <a:pt x="1673" y="1961"/>
                      <a:pt x="1584" y="1998"/>
                    </a:cubicBezTo>
                    <a:cubicBezTo>
                      <a:pt x="1495" y="2035"/>
                      <a:pt x="1317" y="2016"/>
                      <a:pt x="1232" y="1948"/>
                    </a:cubicBezTo>
                    <a:cubicBezTo>
                      <a:pt x="1147" y="1880"/>
                      <a:pt x="1064" y="1700"/>
                      <a:pt x="1073" y="1588"/>
                    </a:cubicBezTo>
                    <a:cubicBezTo>
                      <a:pt x="1082" y="1476"/>
                      <a:pt x="1185" y="1337"/>
                      <a:pt x="1284" y="1273"/>
                    </a:cubicBezTo>
                    <a:cubicBezTo>
                      <a:pt x="1383" y="1209"/>
                      <a:pt x="1545" y="1180"/>
                      <a:pt x="1665" y="1205"/>
                    </a:cubicBezTo>
                    <a:cubicBezTo>
                      <a:pt x="1786" y="1230"/>
                      <a:pt x="1934" y="1312"/>
                      <a:pt x="2006" y="1424"/>
                    </a:cubicBezTo>
                    <a:cubicBezTo>
                      <a:pt x="2078" y="1536"/>
                      <a:pt x="2131" y="1732"/>
                      <a:pt x="2096" y="1876"/>
                    </a:cubicBezTo>
                    <a:cubicBezTo>
                      <a:pt x="2061" y="2020"/>
                      <a:pt x="1936" y="2207"/>
                      <a:pt x="1793" y="2286"/>
                    </a:cubicBezTo>
                    <a:cubicBezTo>
                      <a:pt x="1650" y="2365"/>
                      <a:pt x="1404" y="2395"/>
                      <a:pt x="1239" y="2351"/>
                    </a:cubicBezTo>
                    <a:cubicBezTo>
                      <a:pt x="1074" y="2307"/>
                      <a:pt x="900" y="2190"/>
                      <a:pt x="800" y="2020"/>
                    </a:cubicBezTo>
                    <a:cubicBezTo>
                      <a:pt x="700" y="1850"/>
                      <a:pt x="616" y="1528"/>
                      <a:pt x="641" y="1328"/>
                    </a:cubicBezTo>
                    <a:cubicBezTo>
                      <a:pt x="666" y="1128"/>
                      <a:pt x="784" y="932"/>
                      <a:pt x="951" y="817"/>
                    </a:cubicBezTo>
                    <a:cubicBezTo>
                      <a:pt x="1118" y="702"/>
                      <a:pt x="1426" y="598"/>
                      <a:pt x="1645" y="638"/>
                    </a:cubicBezTo>
                    <a:cubicBezTo>
                      <a:pt x="1864" y="678"/>
                      <a:pt x="2117" y="861"/>
                      <a:pt x="2265" y="1060"/>
                    </a:cubicBezTo>
                    <a:cubicBezTo>
                      <a:pt x="2413" y="1259"/>
                      <a:pt x="2552" y="1579"/>
                      <a:pt x="2535" y="1832"/>
                    </a:cubicBezTo>
                    <a:cubicBezTo>
                      <a:pt x="2518" y="2085"/>
                      <a:pt x="2363" y="2414"/>
                      <a:pt x="2160" y="2581"/>
                    </a:cubicBezTo>
                    <a:cubicBezTo>
                      <a:pt x="1957" y="2748"/>
                      <a:pt x="1612" y="2864"/>
                      <a:pt x="1316" y="2837"/>
                    </a:cubicBezTo>
                    <a:cubicBezTo>
                      <a:pt x="1020" y="2810"/>
                      <a:pt x="599" y="2663"/>
                      <a:pt x="382" y="2416"/>
                    </a:cubicBezTo>
                    <a:cubicBezTo>
                      <a:pt x="165" y="2169"/>
                      <a:pt x="0" y="1687"/>
                      <a:pt x="15" y="1357"/>
                    </a:cubicBezTo>
                    <a:cubicBezTo>
                      <a:pt x="30" y="1027"/>
                      <a:pt x="263" y="653"/>
                      <a:pt x="470" y="437"/>
                    </a:cubicBezTo>
                    <a:cubicBezTo>
                      <a:pt x="677" y="221"/>
                      <a:pt x="1023" y="122"/>
                      <a:pt x="1260" y="61"/>
                    </a:cubicBezTo>
                    <a:cubicBezTo>
                      <a:pt x="1497" y="0"/>
                      <a:pt x="1698" y="20"/>
                      <a:pt x="1891" y="70"/>
                    </a:cubicBezTo>
                    <a:cubicBezTo>
                      <a:pt x="2084" y="120"/>
                      <a:pt x="2273" y="235"/>
                      <a:pt x="2417" y="364"/>
                    </a:cubicBezTo>
                    <a:cubicBezTo>
                      <a:pt x="2561" y="493"/>
                      <a:pt x="2685" y="746"/>
                      <a:pt x="2755" y="846"/>
                    </a:cubicBezTo>
                  </a:path>
                </a:pathLst>
              </a:custGeom>
              <a:noFill/>
              <a:ln w="25560">
                <a:solidFill>
                  <a:srgbClr val="ffffff"/>
                </a:solidFill>
                <a:round/>
                <a:tailEnd len="lg" type="stealth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8" name="AutoShape 8"/>
              <p:cNvSpPr/>
              <p:nvPr/>
            </p:nvSpPr>
            <p:spPr>
              <a:xfrm>
                <a:off x="4572000" y="2781360"/>
                <a:ext cx="3313080" cy="865080"/>
              </a:xfrm>
              <a:prstGeom prst="wedgeEllipseCallout">
                <a:avLst>
                  <a:gd name="adj1" fmla="val -43481"/>
                  <a:gd name="adj2" fmla="val 75689"/>
                </a:avLst>
              </a:prstGeom>
              <a:blipFill rotWithShape="0">
                <a:blip r:embed="rId2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1. Информационное обеспечение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49" name="AutoShape 9"/>
              <p:cNvSpPr/>
              <p:nvPr/>
            </p:nvSpPr>
            <p:spPr>
              <a:xfrm>
                <a:off x="3130560" y="5518080"/>
                <a:ext cx="2736720" cy="1008000"/>
              </a:xfrm>
              <a:prstGeom prst="wedgeEllipseCallout">
                <a:avLst>
                  <a:gd name="adj1" fmla="val 28481"/>
                  <a:gd name="adj2" fmla="val -90314"/>
                </a:avLst>
              </a:prstGeom>
              <a:blipFill rotWithShape="0">
                <a:blip r:embed="rId3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2. Принятие решений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50" name="AutoShape 10"/>
              <p:cNvSpPr/>
              <p:nvPr/>
            </p:nvSpPr>
            <p:spPr>
              <a:xfrm>
                <a:off x="971640" y="1413000"/>
                <a:ext cx="3240000" cy="1008000"/>
              </a:xfrm>
              <a:prstGeom prst="wedgeEllipseCallout">
                <a:avLst>
                  <a:gd name="adj1" fmla="val 34222"/>
                  <a:gd name="adj2" fmla="val 84958"/>
                </a:avLst>
              </a:prstGeom>
              <a:blipFill rotWithShape="0">
                <a:blip r:embed="rId4"/>
                <a:srcRect/>
                <a:stretch/>
              </a:blipFill>
              <a:ln w="93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rm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ru-RU" sz="1800" spc="-1" strike="noStrike">
                    <a:solidFill>
                      <a:srgbClr val="ffffff"/>
                    </a:solidFill>
                    <a:latin typeface="Times New Roman"/>
                    <a:ea typeface="Arial"/>
                  </a:rPr>
                  <a:t>3. Реализация принятых решений</a:t>
                </a:r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  <p:sp>
          <p:nvSpPr>
            <p:cNvPr id="151" name="Line 11"/>
            <p:cNvSpPr/>
            <p:nvPr/>
          </p:nvSpPr>
          <p:spPr>
            <a:xfrm flipH="1">
              <a:off x="6238440" y="4726080"/>
              <a:ext cx="144360" cy="288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2" name="Line 12"/>
            <p:cNvSpPr/>
            <p:nvPr/>
          </p:nvSpPr>
          <p:spPr>
            <a:xfrm flipH="1">
              <a:off x="5650920" y="4487760"/>
              <a:ext cx="7164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3" name="Line 13"/>
            <p:cNvSpPr/>
            <p:nvPr/>
          </p:nvSpPr>
          <p:spPr>
            <a:xfrm flipH="1">
              <a:off x="5157720" y="4165560"/>
              <a:ext cx="7128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4" name="Line 14"/>
            <p:cNvSpPr/>
            <p:nvPr/>
          </p:nvSpPr>
          <p:spPr>
            <a:xfrm flipH="1" flipV="1">
              <a:off x="2987280" y="5229000"/>
              <a:ext cx="144360" cy="144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5" name="Line 15"/>
            <p:cNvSpPr/>
            <p:nvPr/>
          </p:nvSpPr>
          <p:spPr>
            <a:xfrm flipH="1" flipV="1">
              <a:off x="3695400" y="4676400"/>
              <a:ext cx="144360" cy="14436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6" name="Line 16"/>
            <p:cNvSpPr/>
            <p:nvPr/>
          </p:nvSpPr>
          <p:spPr>
            <a:xfrm flipH="1" flipV="1">
              <a:off x="4211280" y="4294080"/>
              <a:ext cx="142920" cy="21600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7" name="Line 17"/>
            <p:cNvSpPr/>
            <p:nvPr/>
          </p:nvSpPr>
          <p:spPr>
            <a:xfrm>
              <a:off x="4487760" y="1519200"/>
              <a:ext cx="144360" cy="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8" name="Line 18"/>
            <p:cNvSpPr/>
            <p:nvPr/>
          </p:nvSpPr>
          <p:spPr>
            <a:xfrm flipV="1">
              <a:off x="4427640" y="2443320"/>
              <a:ext cx="215640" cy="7272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5920" bIns="259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59" name="Line 19"/>
            <p:cNvSpPr/>
            <p:nvPr/>
          </p:nvSpPr>
          <p:spPr>
            <a:xfrm flipV="1">
              <a:off x="4498920" y="3357720"/>
              <a:ext cx="144360" cy="71280"/>
            </a:xfrm>
            <a:prstGeom prst="line">
              <a:avLst/>
            </a:prstGeom>
            <a:ln w="15840">
              <a:solidFill>
                <a:srgbClr val="ffffff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4480" bIns="244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60" name="Прямоугольник 21"/>
          <p:cNvSpPr/>
          <p:nvPr/>
        </p:nvSpPr>
        <p:spPr>
          <a:xfrm>
            <a:off x="0" y="260280"/>
            <a:ext cx="9144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  <a:ea typeface="Arial"/>
              </a:rPr>
              <a:t>Управленческий цикл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Rectangle 2"/>
          <p:cNvSpPr/>
          <p:nvPr/>
        </p:nvSpPr>
        <p:spPr>
          <a:xfrm>
            <a:off x="0" y="59760"/>
            <a:ext cx="9144000" cy="89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Цикл эффективного управления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  <a:p>
            <a:pPr marL="173160" indent="6120"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Шухарта – Деминга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63" name="Picture 3" descr="1"/>
          <p:cNvPicPr/>
          <p:nvPr/>
        </p:nvPicPr>
        <p:blipFill>
          <a:blip r:embed="rId2"/>
          <a:stretch/>
        </p:blipFill>
        <p:spPr>
          <a:xfrm>
            <a:off x="2050920" y="981000"/>
            <a:ext cx="5418360" cy="5648400"/>
          </a:xfrm>
          <a:prstGeom prst="rect">
            <a:avLst/>
          </a:prstGeom>
          <a:ln w="0">
            <a:noFill/>
          </a:ln>
        </p:spPr>
      </p:pic>
      <p:sp>
        <p:nvSpPr>
          <p:cNvPr id="164" name="Rectangle 4"/>
          <p:cNvSpPr/>
          <p:nvPr/>
        </p:nvSpPr>
        <p:spPr>
          <a:xfrm>
            <a:off x="3492360" y="191484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Бы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5" name="Rectangle 5"/>
          <p:cNvSpPr/>
          <p:nvPr/>
        </p:nvSpPr>
        <p:spPr>
          <a:xfrm>
            <a:off x="3565440" y="5858280"/>
            <a:ext cx="194472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Tahoma"/>
              </a:rPr>
              <a:t>Стало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6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shuhart"/>
          <p:cNvPicPr/>
          <p:nvPr/>
        </p:nvPicPr>
        <p:blipFill>
          <a:blip r:embed="rId2"/>
          <a:stretch/>
        </p:blipFill>
        <p:spPr>
          <a:xfrm>
            <a:off x="250920" y="333360"/>
            <a:ext cx="3025800" cy="446400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4"/>
          <p:cNvSpPr/>
          <p:nvPr/>
        </p:nvSpPr>
        <p:spPr>
          <a:xfrm>
            <a:off x="3276720" y="694800"/>
            <a:ext cx="5867280" cy="36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ff00"/>
                </a:solidFill>
                <a:latin typeface="Tahoma"/>
              </a:rPr>
              <a:t>Уолтер Шухарт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 (1891 – 1967) – всемирно известный американский ученый и консультант по теории управлен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В 1924 году предложил метод выявления отступлений от нормы и тенденций возникновения ошибок до появления некачественного продукта (применение контрольных карт), который произвели революцию в методах управления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9" name="Rectangle 5"/>
          <p:cNvSpPr/>
          <p:nvPr/>
        </p:nvSpPr>
        <p:spPr>
          <a:xfrm>
            <a:off x="0" y="4941360"/>
            <a:ext cx="9144000" cy="131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Во многом благодаря наработкам Шухарта была реализована статистическая концепция </a:t>
            </a:r>
            <a:r>
              <a:rPr b="1" lang="ru-RU" sz="2100" spc="-1" strike="noStrike">
                <a:solidFill>
                  <a:srgbClr val="ff9933"/>
                </a:solidFill>
                <a:latin typeface="Tahoma"/>
              </a:rPr>
              <a:t>Шесть сигма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Совместно с Э. Демингом предложил модель эффективного управления («</a:t>
            </a:r>
            <a:r>
              <a:rPr b="1" lang="ru-RU" sz="2100" spc="-1" strike="noStrike">
                <a:solidFill>
                  <a:srgbClr val="ffff00"/>
                </a:solidFill>
                <a:latin typeface="Tahoma"/>
              </a:rPr>
              <a:t>цикл Шухарта-Деминга</a:t>
            </a:r>
            <a:r>
              <a:rPr b="1" lang="ru-RU" sz="2100" spc="-1" strike="noStrike">
                <a:solidFill>
                  <a:srgbClr val="ffffff"/>
                </a:solidFill>
                <a:latin typeface="Tahoma"/>
              </a:rPr>
              <a:t>»).</a:t>
            </a:r>
            <a:endParaRPr b="0" lang="en-US" sz="2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 txBox="1"/>
          <p:nvPr/>
        </p:nvSpPr>
        <p:spPr>
          <a:xfrm>
            <a:off x="0" y="1699920"/>
            <a:ext cx="914400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2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Tahoma"/>
              </a:rPr>
              <a:t> 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0" lang="ru-RU" sz="32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– это умение заставить других людей выполнять ту работу, которую в случае неуспеха придется выполнять тебе самому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Rectangle 2"/>
          <p:cNvSpPr/>
          <p:nvPr/>
        </p:nvSpPr>
        <p:spPr>
          <a:xfrm>
            <a:off x="3851280" y="195120"/>
            <a:ext cx="5292720" cy="35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9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ff00"/>
                </a:solidFill>
                <a:latin typeface="Tahoma"/>
              </a:rPr>
              <a:t>Эдвард Деминг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 (1900 – 1993) – американский учёный, статистик и консультант по теории управления качеством. Наибольшую известность Деминг приобрел за свои инновационные предложения о реорганизации предприятий, широко используемые в Японии и других странах под названием «</a:t>
            </a:r>
            <a:r>
              <a:rPr b="1" lang="ru-RU" sz="1800" spc="-1" strike="noStrike">
                <a:solidFill>
                  <a:srgbClr val="ffff00"/>
                </a:solidFill>
                <a:latin typeface="Tahoma"/>
              </a:rPr>
              <a:t>бережливое производство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»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высокое качество продуктов японской промышленности в значительной степени ответственен именно он. 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2" name="Picture 3" descr="deming_w_edwards_200"/>
          <p:cNvPicPr/>
          <p:nvPr/>
        </p:nvPicPr>
        <p:blipFill>
          <a:blip r:embed="rId2"/>
          <a:stretch/>
        </p:blipFill>
        <p:spPr>
          <a:xfrm>
            <a:off x="196920" y="189000"/>
            <a:ext cx="3663720" cy="4176720"/>
          </a:xfrm>
          <a:prstGeom prst="rect">
            <a:avLst/>
          </a:prstGeom>
          <a:ln w="0">
            <a:noFill/>
          </a:ln>
        </p:spPr>
      </p:pic>
      <p:sp>
        <p:nvSpPr>
          <p:cNvPr id="173" name="Rectangle 4"/>
          <p:cNvSpPr/>
          <p:nvPr/>
        </p:nvSpPr>
        <p:spPr>
          <a:xfrm>
            <a:off x="108000" y="4437360"/>
            <a:ext cx="87138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Перед окончанием второй мировой войны статистический контроль качества применялся в Японии очень мало.</a:t>
            </a:r>
            <a:r>
              <a:rPr b="0" lang="ru-RU" sz="1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В конце 40-х годов Деминг обучал японцев статистическим методам. Деминг был первым из тех, кого теперь называют «</a:t>
            </a:r>
            <a:r>
              <a:rPr b="1" lang="ru-RU" sz="1800" spc="-1" strike="noStrike">
                <a:solidFill>
                  <a:srgbClr val="ff9933"/>
                </a:solidFill>
                <a:latin typeface="Tahoma"/>
              </a:rPr>
              <a:t>американскими гуру качества</a:t>
            </a: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», посетивших Японию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За Демингом последовали Д. Джуран и А. Фейгенбаум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73160" indent="936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Tahoma"/>
              </a:rPr>
              <a:t>Именно они подтолкнули Японию к внедрению современных методов исследования потребительского рынка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Rectangle 2"/>
          <p:cNvSpPr/>
          <p:nvPr/>
        </p:nvSpPr>
        <p:spPr>
          <a:xfrm>
            <a:off x="0" y="5732640"/>
            <a:ext cx="9144000" cy="66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Награда выдается в виде диплома и серебряной медали с профилем Э. Деминга.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76" name="Picture 3" descr="Medal_JUSE"/>
          <p:cNvPicPr/>
          <p:nvPr/>
        </p:nvPicPr>
        <p:blipFill>
          <a:blip r:embed="rId2"/>
          <a:stretch/>
        </p:blipFill>
        <p:spPr>
          <a:xfrm>
            <a:off x="2627280" y="1773360"/>
            <a:ext cx="3828960" cy="3809880"/>
          </a:xfrm>
          <a:prstGeom prst="rect">
            <a:avLst/>
          </a:prstGeom>
          <a:ln w="0">
            <a:noFill/>
          </a:ln>
        </p:spPr>
      </p:pic>
      <p:sp>
        <p:nvSpPr>
          <p:cNvPr id="177" name="Rectangle 4"/>
          <p:cNvSpPr/>
          <p:nvPr/>
        </p:nvSpPr>
        <p:spPr>
          <a:xfrm>
            <a:off x="0" y="113400"/>
            <a:ext cx="9144000" cy="151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В знак признания заслуг Э. Деминга в </a:t>
            </a:r>
            <a:r>
              <a:rPr b="1" lang="ru-RU" sz="2200" spc="-1" strike="noStrike">
                <a:solidFill>
                  <a:srgbClr val="ff9933"/>
                </a:solidFill>
                <a:latin typeface="Arial"/>
              </a:rPr>
              <a:t>1951 </a:t>
            </a:r>
            <a:r>
              <a:rPr b="1" lang="ru-RU" sz="2200" spc="-1" strike="noStrike">
                <a:solidFill>
                  <a:srgbClr val="ffffff"/>
                </a:solidFill>
                <a:latin typeface="Arial"/>
              </a:rPr>
              <a:t>г. в Японии была учреждена награда его имени, присуждаемая с тех пор ежегодно компаниям за выдающиеся успехи в деле повышения качества и отдельным лицам за существенный вклад в теорию и практику управления качеством. </a:t>
            </a:r>
            <a:endParaRPr b="0" lang="en-US" sz="2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8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9" name="Picture 2" descr="img_0"/>
          <p:cNvPicPr/>
          <p:nvPr/>
        </p:nvPicPr>
        <p:blipFill>
          <a:blip r:embed="rId2"/>
          <a:stretch/>
        </p:blipFill>
        <p:spPr>
          <a:xfrm>
            <a:off x="971640" y="765000"/>
            <a:ext cx="7272360" cy="5929560"/>
          </a:xfrm>
          <a:prstGeom prst="rect">
            <a:avLst/>
          </a:prstGeom>
          <a:ln w="0">
            <a:noFill/>
          </a:ln>
        </p:spPr>
      </p:pic>
      <p:sp>
        <p:nvSpPr>
          <p:cNvPr id="180" name="Rectangle 3"/>
          <p:cNvSpPr/>
          <p:nvPr/>
        </p:nvSpPr>
        <p:spPr>
          <a:xfrm>
            <a:off x="0" y="0"/>
            <a:ext cx="9144000" cy="66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100" spc="-1" strike="noStrike">
                <a:solidFill>
                  <a:srgbClr val="00ffff"/>
                </a:solidFill>
                <a:latin typeface="Arial"/>
              </a:rPr>
              <a:t>Модель управления качеством</a:t>
            </a:r>
            <a:endParaRPr b="0" lang="en-US" sz="31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 txBox="1"/>
          <p:nvPr/>
        </p:nvSpPr>
        <p:spPr>
          <a:xfrm>
            <a:off x="179280" y="333360"/>
            <a:ext cx="89647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Планирование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включает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1. Первая часть управленческого цикл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(сбор, хранение, обработку, анализ информации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2. Вторая часть управленческого цикла (разработка альтернативных решений, выбор и принятие оптимального решения)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2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    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  <a:ea typeface="Arial"/>
              </a:rPr>
              <a:t>Методы планирования: 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Аналитически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Нормативны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Бюджетны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Метод соотношений и пропорци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Эксперимента и моделирования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Метод системного и ситуационного подхода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ffffff"/>
              </a:buClr>
              <a:buSzPct val="65000"/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  <a:ea typeface="Arial"/>
              </a:rPr>
              <a:t>Экономический анализ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87480">
              <a:lnSpc>
                <a:spcPct val="80000"/>
              </a:lnSpc>
              <a:spcBef>
                <a:spcPts val="64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 txBox="1"/>
          <p:nvPr/>
        </p:nvSpPr>
        <p:spPr>
          <a:xfrm>
            <a:off x="250560" y="260280"/>
            <a:ext cx="8893080" cy="61689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5400"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Организация выполнения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направлена на создание условий для реализации принятых управленческих решений, выполнения планов и программ, обеспечение для этого финансовых, материально-технических, информационных и других ресурсов. 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5400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Проверка (контроль)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позволяет осуществлять обратную связь,</a:t>
            </a:r>
            <a:r>
              <a:rPr b="0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95400">
              <a:lnSpc>
                <a:spcPct val="100000"/>
              </a:lnSpc>
              <a:spcBef>
                <a:spcPts val="206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    </a:t>
            </a:r>
            <a:r>
              <a:rPr b="1" lang="ru-RU" sz="3000" spc="-1" strike="noStrike">
                <a:solidFill>
                  <a:srgbClr val="ffff99"/>
                </a:solidFill>
                <a:latin typeface="Arial"/>
                <a:ea typeface="Arial"/>
              </a:rPr>
              <a:t>Действие (руководство)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  <a:ea typeface="Arial"/>
              </a:rPr>
              <a:t> – это мотивация сотрудников для реализации управленческих решений, оно завершает цикл управления.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 txBox="1"/>
          <p:nvPr/>
        </p:nvSpPr>
        <p:spPr>
          <a:xfrm>
            <a:off x="250560" y="333000"/>
            <a:ext cx="8643960" cy="545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88560" indent="4914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Таким образом, в понятие </a:t>
            </a:r>
            <a:r>
              <a:rPr b="1" lang="ru-RU" sz="3200" spc="-1" strike="noStrike">
                <a:solidFill>
                  <a:srgbClr val="ffff99"/>
                </a:solidFill>
                <a:latin typeface="Arial"/>
              </a:rPr>
              <a:t>менеджмент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ключается искусство управления интеллектуальными, финансовыми, сырьевыми и материальными ресурсами в целях обеспечения наиболее эффективной производственной деятельности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88560" indent="491400">
              <a:lnSpc>
                <a:spcPct val="9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Tahoma"/>
            </a:endParaRPr>
          </a:p>
          <a:p>
            <a:pPr marL="88560" indent="491400">
              <a:lnSpc>
                <a:spcPct val="9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Для </a:t>
            </a:r>
            <a:r>
              <a:rPr b="1" lang="ru-RU" sz="3200" spc="-1" strike="noStrike">
                <a:solidFill>
                  <a:srgbClr val="ff9933"/>
                </a:solidFill>
                <a:latin typeface="Arial"/>
              </a:rPr>
              <a:t>современного управления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характерны децентрализация и сосредоточение большей ответственности на низких уровнях управления, и, прежде всего, на рабочих местах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Text Box 6"/>
          <p:cNvSpPr/>
          <p:nvPr/>
        </p:nvSpPr>
        <p:spPr>
          <a:xfrm>
            <a:off x="611280" y="2637000"/>
            <a:ext cx="8136000" cy="794880"/>
          </a:xfrm>
          <a:prstGeom prst="rect">
            <a:avLst/>
          </a:prstGeom>
          <a:noFill/>
          <a:ln w="0">
            <a:noFill/>
          </a:ln>
          <a:effectLst>
            <a:outerShdw dist="92520" dir="20637765" blurRad="0" rotWithShape="0">
              <a:srgbClr val="00336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600" spc="-1" strike="noStrike">
                <a:solidFill>
                  <a:srgbClr val="ffff99"/>
                </a:solidFill>
                <a:latin typeface="Tahoma"/>
              </a:rPr>
              <a:t>Благодарю за внимание!</a:t>
            </a:r>
            <a:endParaRPr b="0" lang="en-US" sz="4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9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66560" y="189000"/>
            <a:ext cx="8229600" cy="1008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ffff"/>
                </a:solidFill>
                <a:latin typeface="Tahoma"/>
              </a:rPr>
              <a:t>Рейтинг представителей различных профессий (по 100-балльной шкале)</a:t>
            </a:r>
            <a:endParaRPr b="0" lang="en-US" sz="32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395280" y="1484280"/>
          <a:ext cx="8229600" cy="5199120"/>
        </p:xfrm>
        <a:graphic>
          <a:graphicData uri="http://schemas.openxmlformats.org/drawingml/2006/table">
            <a:tbl>
              <a:tblPr/>
              <a:tblGrid>
                <a:gridCol w="2809800"/>
                <a:gridCol w="2676600"/>
                <a:gridCol w="2743200"/>
              </a:tblGrid>
              <a:tr h="57924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9933"/>
                          </a:solidFill>
                          <a:latin typeface="Tahoma"/>
                        </a:rPr>
                        <a:t>Профе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99ff33"/>
                          </a:solidFill>
                          <a:latin typeface="Tahoma"/>
                        </a:rPr>
                        <a:t>США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9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3200" spc="-1" strike="noStrike">
                          <a:solidFill>
                            <a:srgbClr val="ffff99"/>
                          </a:solidFill>
                          <a:latin typeface="Tahoma"/>
                        </a:rPr>
                        <a:t>Россия</a:t>
                      </a:r>
                      <a:endParaRPr b="0" lang="en-US" sz="32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ученые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врач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изнесмен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3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0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юрис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банки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7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608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мед. сестр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8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50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еступные авторитеты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.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          </a:t>
                      </a: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20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1840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роститутки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0.0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8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1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1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Rectangle 2"/>
          <p:cNvSpPr/>
          <p:nvPr/>
        </p:nvSpPr>
        <p:spPr>
          <a:xfrm>
            <a:off x="0" y="5212800"/>
            <a:ext cx="9036000" cy="988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>
              <a:spcBef>
                <a:spcPts val="1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ffff00"/>
                </a:solidFill>
                <a:latin typeface="Tahoma"/>
              </a:rPr>
              <a:t>«Каждая кухарка может управлять государством»</a:t>
            </a:r>
            <a:endParaRPr b="0" lang="en-US" sz="2500" spc="-1" strike="noStrike">
              <a:solidFill>
                <a:srgbClr val="ffffff"/>
              </a:solidFill>
              <a:latin typeface="Tahoma"/>
            </a:endParaRPr>
          </a:p>
          <a:p>
            <a:pPr marL="173160">
              <a:spcBef>
                <a:spcPts val="12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                                                                                       </a:t>
            </a:r>
            <a:r>
              <a:rPr b="1" i="1" lang="ru-RU" sz="2300" spc="-1" strike="noStrike">
                <a:solidFill>
                  <a:srgbClr val="ffff00"/>
                </a:solidFill>
                <a:latin typeface="Tahoma"/>
              </a:rPr>
              <a:t>Ленин</a:t>
            </a:r>
            <a:endParaRPr b="0" lang="en-US" sz="23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63" name="Picture 5" descr="280px-Leninportrait"/>
          <p:cNvPicPr/>
          <p:nvPr/>
        </p:nvPicPr>
        <p:blipFill>
          <a:blip r:embed="rId2"/>
          <a:stretch/>
        </p:blipFill>
        <p:spPr>
          <a:xfrm>
            <a:off x="2771640" y="333360"/>
            <a:ext cx="3140280" cy="4608360"/>
          </a:xfrm>
          <a:prstGeom prst="rect">
            <a:avLst/>
          </a:prstGeom>
          <a:ln w="0">
            <a:noFill/>
          </a:ln>
        </p:spPr>
      </p:pic>
      <p:sp>
        <p:nvSpPr>
          <p:cNvPr id="64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"/>
          <p:cNvSpPr txBox="1"/>
          <p:nvPr/>
        </p:nvSpPr>
        <p:spPr>
          <a:xfrm>
            <a:off x="0" y="189000"/>
            <a:ext cx="9144000" cy="1224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92160" indent="53316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Успешное управление организацией требует наличия у </a:t>
            </a:r>
            <a:r>
              <a:rPr b="1" lang="ru-RU" sz="2600" spc="-1" strike="noStrike">
                <a:solidFill>
                  <a:srgbClr val="00ff00"/>
                </a:solidFill>
                <a:latin typeface="Arial"/>
              </a:rPr>
              <a:t>менеджера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следующих навыков и способностей: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Содержимое 2"/>
          <p:cNvSpPr/>
          <p:nvPr/>
        </p:nvSpPr>
        <p:spPr>
          <a:xfrm>
            <a:off x="0" y="1413000"/>
            <a:ext cx="9144000" cy="544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. Способнос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правлять собой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2. Разум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е ценност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3. Четки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е цели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4. Упор на постоянный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личный рост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5. Навык реша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проблем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6. Изобретательность и способность к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инновациям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7. Высокая способность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влия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на окружающи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8.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Способность руководить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0. Умени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обуча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и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развивать</a:t>
            </a: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 подчиненных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1. Способность формировать и развивать эффективные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рабочие группы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ffffff"/>
                </a:solidFill>
                <a:latin typeface="Arial"/>
              </a:rPr>
              <a:t>12. Знание эффективных </a:t>
            </a:r>
            <a:r>
              <a:rPr b="1" lang="ru-RU" sz="2600" spc="-1" strike="noStrike">
                <a:solidFill>
                  <a:srgbClr val="ffff99"/>
                </a:solidFill>
                <a:latin typeface="Arial"/>
              </a:rPr>
              <a:t>управленческих подходов</a:t>
            </a:r>
            <a:endParaRPr b="0" lang="en-US" sz="2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 txBox="1"/>
          <p:nvPr/>
        </p:nvSpPr>
        <p:spPr>
          <a:xfrm>
            <a:off x="356760" y="1285560"/>
            <a:ext cx="857268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1. Школа научного управления (1885-193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2. Административная или классическая школа (1920-195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3. Школа человеческих отношений (1930-1950 гг.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4. Математическая школа управления (с 50-х годов 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XX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 века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Rectangle 3"/>
          <p:cNvSpPr/>
          <p:nvPr/>
        </p:nvSpPr>
        <p:spPr>
          <a:xfrm>
            <a:off x="0" y="22320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Школы менеджмента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"/>
          <p:cNvSpPr txBox="1"/>
          <p:nvPr/>
        </p:nvSpPr>
        <p:spPr>
          <a:xfrm>
            <a:off x="0" y="1483920"/>
            <a:ext cx="9144000" cy="566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   </a:t>
            </a: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Основные принципы: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1) разработка формальной структуры организации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2) рациональная организация труда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3) сотрудничество управляющего и рабочего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  <a:p>
            <a:pPr marL="547560" indent="-411120">
              <a:lnSpc>
                <a:spcPct val="100000"/>
              </a:lnSpc>
              <a:spcBef>
                <a:spcPts val="1687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ff"/>
                </a:solidFill>
                <a:latin typeface="Arial"/>
              </a:rPr>
              <a:t>4) разграничение исполнительных и управленческих функций</a:t>
            </a:r>
            <a:endParaRPr b="0" lang="en-US" sz="3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Rectangle 4"/>
          <p:cNvSpPr/>
          <p:nvPr/>
        </p:nvSpPr>
        <p:spPr>
          <a:xfrm>
            <a:off x="0" y="404280"/>
            <a:ext cx="91440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marL="173160" indent="6120"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ffff"/>
                </a:solidFill>
                <a:latin typeface="Arial"/>
              </a:rPr>
              <a:t>Школа научного управления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400" spc="-1" strike="noStrike">
                <a:solidFill>
                  <a:srgbClr val="ffffff"/>
                </a:solidFill>
                <a:latin typeface="Arial"/>
              </a:rPr>
              <a:t>www.sliderpoint.org</a:t>
            </a:r>
            <a:endParaRPr b="0" lang="en-US" sz="1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21T06:21:07Z</dcterms:created>
  <dc:creator>Olga Chernykh</dc:creator>
  <dc:description/>
  <dc:language>en-US</dc:language>
  <cp:lastModifiedBy>LEGION</cp:lastModifiedBy>
  <dcterms:modified xsi:type="dcterms:W3CDTF">2016-01-11T10:02:19Z</dcterms:modified>
  <cp:revision>409</cp:revision>
  <dc:subject/>
  <dc:title>Менеджмент в сестринском деле: теория и практика</dc:title>
</cp:coreProperties>
</file>